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CCFB4-2636-406D-BDE0-87B226FFB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C1194-454C-42AD-BCCA-272A3232A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0A68B-990E-4D9F-870B-7070E14CF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FDE5F-1C61-43E6-8CF4-F7E075B90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96E0E-DB6E-4D89-996C-97CA309DB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14CFF-35FE-41B5-8608-FDE56CE9E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90AED-BEC5-4EFF-9FD5-24F6D50BB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531F5-8BBA-4188-8C21-A4F944061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973B6-F7AF-4648-882C-E67D29239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995AD-9A70-402A-9A41-A5D08571A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5963B-7CA3-47A8-B35D-E9523FF93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C615E-1C2D-49D1-8060-341118C22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A4BAF-227D-4BEE-A476-FA4A25D782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ngDings bullet chars test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tangular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quare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border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te z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der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ight outline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 filled diamo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 of Dav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5 point st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30T18:28:10Z</dcterms:created>
  <dc:creator> </dc:creator>
  <dc:description/>
  <dc:language>en-US</dc:language>
  <cp:lastModifiedBy>Bilbo Baggins</cp:lastModifiedBy>
  <dcterms:modified xsi:type="dcterms:W3CDTF">2003-02-24T18:57:51Z</dcterms:modified>
  <cp:revision>5</cp:revision>
  <dc:subject/>
  <dc:title>WingDings bullet chars test:</dc:title>
</cp:coreProperties>
</file>