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516C-8C54-49EA-9138-5631C2D5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EE9-9C71-4DF3-B534-FEA9011A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D1394-D786-425B-BB0C-BD3BF6B5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10432-3DE6-4704-AC39-D27F1876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38375-5142-482D-9BC3-0CC79C3B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037A1-5971-46A3-9EA3-FE70DB0F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9C4BD-66D4-4AE6-86CC-418379D2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739A1-116A-455A-9D36-F9FC009E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CD48D-E5EE-4903-B658-E5530C32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7B513-9C7C-4701-B564-0FBDABE2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A23C2-65C1-4EA7-B29F-E9EFFD98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BDB1BA-74C0-46EC-B5D0-EC21F3FB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81D6-4CD1-46CA-ADBB-A490B095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27BD2B-3CBF-45A7-A074-CCB8236E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8D04B4-CDAA-4666-AEAD-2891F818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9C6400-142A-4D91-AEE0-FDBC42E0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F59861-5CE2-40E9-9D69-EAD266D1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A7E972-C135-4F57-909D-D4B7551D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DCDE4E-28A9-4AC7-933D-4B6FBF24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22C95B-7611-4ED3-AEBE-9FA7EDA6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15A44F-9CDB-4C79-9868-61B3B252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5EFF6F-452F-4130-9740-E59FA086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918FA3-E5D9-4EC9-8255-D62735DA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5765-E384-4943-98B1-8CAEFEE1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700A83-DDFD-488D-B574-C4E3CA31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10B6B-BB7E-460B-B698-4BB8E63B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1CF9D-B62D-4854-BD31-490C4B26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D6DD9-F747-4E9C-9994-C369734D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22316-BA02-4D82-BC8E-796B256F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42B6A-8240-4A03-8EAA-3A60E0BC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0A8B4-781B-468A-AEA0-04CB5E53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02FFE-B365-4BBB-AA47-025C56EC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425DA-DC8E-4DBE-8DDB-AA96AFF0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0ABD6-3C43-48A2-B741-0EF2CBC7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94A3-8DD5-4520-8D41-5D3F29D6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90D01-0F65-4139-AE82-C662E3F2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2EB12-7A83-4BE0-8A9D-90BCB589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0A118-BE94-46F3-A710-778D4BE7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494EB-D229-460B-91DA-750399E2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7C967-A7C0-4658-A448-98E2042C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F422B-AC1B-4709-9AFA-7E84E480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C2939-3243-4524-AF61-5DECE324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B92AE-F765-4DFE-9E1F-4708AAE3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A263A-5EC8-4253-80C9-3B90D700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6DC85-E507-4B8C-A9CC-F30F8757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342B-2697-4560-ADED-3C0981FD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8157C-9301-4FAF-86C2-F5089223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C9B13-0BC5-4357-B4C3-C95BC1DB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D6CBE-E3F8-4F60-ADEB-7CEE1772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8B0A9-8B7D-4371-86F5-ED0FBA9B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A4B92-A728-4685-9867-BB419AD2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69C7-449F-4430-8802-083C4884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CADD-DF10-4869-9333-9955B630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E283-6439-4E02-895C-C8FB0CEC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7E2F-1509-4C90-B5C6-EC91C603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6DDE-F62A-4237-AD18-E95D6580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F15-523C-4234-B027-73E35191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B42B-88AB-456B-873B-D4D8A770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2CD7-041C-47E5-8068-617C87FD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8970-C7CB-40AD-BFC3-4C12CE5C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CE26-21FD-43B2-AFB3-AD50C012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083B-6A58-49A9-8A8D-6DC903E7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FF04E-E579-4715-8D93-19402EC4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9B2CD-D5B7-4EC8-AE35-87802B12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B7FBE-29F5-48CB-AD85-CE90056B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A1FA9-0F55-4D32-8F22-168E6E4D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FB935-8427-4FC7-8371-36EA6F4B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27B-5784-41DD-AFAD-E539503B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E5826-63DC-4679-98C5-C3F8CC4C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26D82-DA12-4FA0-B521-EF2B2356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7B851-FC7A-4329-BCA8-74E2CE98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1A54B-20E2-4F3A-8A49-4ADEC23B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9CD7B-07BE-40D6-A533-348898B7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3F306-07CA-4089-AC1B-6D7E3577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83C42-807A-487D-A91E-43BA385E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05B4F-72C3-4A58-AE63-A9B6946F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348E6-AD15-432F-9206-8580C6F5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47C5E-A176-4F1C-9FA2-6B1641E0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7AF4-0CB3-48F7-AFF4-0EB3E235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B52F6-87B0-4CAE-9891-FD460ABD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FE36E-DED8-4C87-A372-B0FEC002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6504F-E580-4B46-97E6-6E068E23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89B56-2318-4CF6-9FD9-6D1C398F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57BEF-C260-4A4E-878A-B7461172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D40CD-09F6-4011-B253-FF5DAFEB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379DC-4A6F-4547-BCC0-07C4902A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34709-C2F6-4F4D-90E7-3CC67316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1E272-C12A-4A73-9007-E02935ED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5BC04E-A35F-46AA-8410-B3958E30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A247-1340-4F62-BE91-0F69CBFC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1369CE-0FDA-4FCE-974A-D83CDD7F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A00504-8778-477F-8B98-49FB186A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F0BF9C-26BE-423B-A031-6942FACA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D34292-328E-4844-9A82-22292419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A9769B-C399-4675-9074-C29E45D1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001EC7-19D3-4041-ADAD-3B726EB9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036397-B690-4812-BD02-C6FD2388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EE22D1-723C-46A0-82F4-86B7AF32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2FC68B-8873-4A1A-B354-AED2F91B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282DF6-CF42-4045-BED2-3D19E781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5441-ECEF-4CE2-9DF7-52796672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F78260-1647-4465-953B-DF6D00DD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F96B3-5103-43A3-8A09-6F8CB03E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8F4C1-20B7-4D33-90B0-72FCDE42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7C921-74AF-46EE-8B1E-62567E15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91284-09C3-4F4C-89A4-5490DCD6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BA6A6-6E84-4E7B-B3FD-165DC263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726A8-D403-401C-8CD0-133BA209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A3F1E-6090-4DAF-96A5-54B7F4C4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15D5F-CE21-4892-9658-5E393EAE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CFC9B-5FF8-458E-8008-79F69AC4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9DCC-95A1-4F21-A8F4-6727934C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A0655-C4B2-4264-81C8-56A2DDAD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A5C5F-420E-4206-8F6E-97B44B67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08E8D-989C-4F81-9A48-841D2B91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3FF78-C210-4E67-85B9-8F94F0AC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C53D0-F07B-4A68-B396-346AFE10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6F141-DB73-44F5-97B4-B0679BD6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9FA6A-21B7-4006-9E91-73F50B8F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6CE6E-9C87-4457-BCA1-3AE2F3C7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4078A-17C4-4A3A-8AB1-A9554F55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D31CC-8B95-4E44-AB25-6502D403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AF7A-92F2-4CCC-AD21-32900884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5D1DD-616E-4E1F-B26F-B0C7C43F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14A99-584D-4896-AC0D-777B4386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D4078-09BC-42CC-A09B-B6945319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D568D-4A99-4F49-8A7D-49F54D81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BDCBB-20A9-4E6B-B13E-E0BA4323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1F9B6-E04C-43F2-9DBB-901DA01B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405CB-F29A-4BD2-9044-0D046CAE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4B834-2470-413E-B315-48CB4B82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374CE-2022-4DCC-A18D-D5252504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58DA5-A488-40F6-B41A-8F3E5959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EC0A-D5C0-4890-9329-4CDB86CD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C7FBD-EF50-4BB4-BCA5-F59C532C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0A5F0-A75C-4251-AD27-D5C35CC2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6C176-AF07-4CE4-BF5A-1D6FF564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2E66F-8ADD-42C1-83E4-9834540F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60068-6943-448A-ABDA-483E7B0D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C4E25-619A-418C-9726-A0514F50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8866F-54B6-46F5-BBD1-BACBC2E8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18A74-1B56-4969-A632-A0031EC2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376A7-E397-49E3-8578-39B42E3C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9AAF0-F181-49D5-AA9C-C42003B1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683C-75E9-4766-B58C-777696E75FD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754D-C1D9-455E-BA77-D34552DBC9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1618-FB64-4B5D-8A6E-99EA57E9CB6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7CCC-D59C-45DE-9675-1AEE9C221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517F-4025-4120-874E-7ED12C47590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90A8-90B1-4215-939D-41D0B925E12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5B40-B96A-43FA-B6E5-99913A15D9F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C707-92AA-42DD-8EAE-51B477A04DA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052C-3BB4-4C62-B7CB-8BF6552F369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DCBF-745D-4F11-AC02-100A62FF03E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3F93-3082-4896-878F-2C12363841C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4970-9368-4A9A-AD98-910FB11EA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9FA6-8B07-408B-96C0-6FDC27CF078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CC33-3799-4818-A0D7-7B8883375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0683-B982-496D-9C4F-651209A660B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3ECB-EC31-4B4E-94CE-629E3374B0B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85E8-BC53-4C6F-B9E3-FCC27B2C5A7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0583-63E6-4D6C-B89D-5FDDECC27A5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2985-DCAC-4CEB-BABA-C69E6B616C0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5AB5-ED49-4528-B14C-AF420CBAB4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1F02-A8EA-4B18-8145-0160A1CA21E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D88C-46FD-4F3A-9ED1-473A76C996F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A253-D20B-4A9E-AC35-76CC1E0C335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4DE2-D5B4-462A-BDCA-665F9B44C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004D-5DFA-4B46-AD59-69A0480C15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EF1E9-E040-4F2C-8716-82A16527BD89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2AFC5-C0C3-4611-9C3E-9BF388579E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6E3D782F-B715-440B-A5DF-BDCCBA353B76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80AF7-A9C2-45E1-95AE-BBB82C4E7B1E}" type="slidenum">
              <a:t>3</a:t>
            </a:fld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EAC79E-3F2B-412F-9CE8-24867108DFF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1709E03B-356A-4E88-8E2B-79044C9D8162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E0763-7C1D-407F-AB06-F9DC957F10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FB72511-DDE0-49BC-848A-97156E1D2C4C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6C7A1-CCF3-490B-B08D-6AED0CBB0D7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9AF47838-B77A-4272-9AB6-E7685C008414}" type="datetime1">
              <a:rPr lang="en-US"/>
              <a:t>07/30/26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