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716A4-DA69-4401-9DED-A24F1EEA0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559C2-3C7A-49FC-AE66-B6BFC0C8D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6C72D-6C0E-4CB0-91C7-3601AA994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39CDB-7CFA-4204-AF4B-DC61872A9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B5DD6-02B1-4E17-A710-85702D74B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FC0B6-94AA-464A-99F5-FE51AA619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DF0A5-7F54-4E23-AC22-8817022F5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A3F4B-E652-48BA-84BA-4EE5FD118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93DED-054A-49D0-9138-CE0A9A902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BE262-6A7E-4F7E-A9AE-086A92438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5FB00-F2F6-482F-98A3-DC2B45F8F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07EAC-9E9C-4680-A0FA-CB9EB14F8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BE1A7-7E46-42B3-B2E5-5EF60A9A94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66680" y="700200"/>
            <a:ext cx="7391520" cy="5400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820800" y="189000"/>
            <a:ext cx="1008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ource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500120" y="380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32080" y="1260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ilter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752480" y="2286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424240" y="184320"/>
            <a:ext cx="1157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971800" y="388800"/>
            <a:ext cx="0" cy="525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624120" y="184320"/>
            <a:ext cx="1024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ar Char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038480" y="3808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391520" y="184320"/>
            <a:ext cx="1600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View Configuration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029440" y="380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534520" y="1949400"/>
            <a:ext cx="609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D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7695720" y="20574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00" y="7300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oad/Save Data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61840" y="990720"/>
            <a:ext cx="246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00" y="1174680"/>
            <a:ext cx="914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on Filters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1295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320" y="1568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ipeline Brows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46200" y="17524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6320" y="32446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bject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3429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6320" y="48448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62120" y="50292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76720" y="6400800"/>
            <a:ext cx="1143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preadshee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809880" y="5714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629400" y="6400800"/>
            <a:ext cx="1066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XY Plo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7010280" y="563832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3T18:26:05Z</dcterms:created>
  <dc:creator> Amy Squillacote</dc:creator>
  <dc:description/>
  <dc:language>en-US</dc:language>
  <cp:lastModifiedBy> Amy Squillacote</cp:lastModifiedBy>
  <dcterms:modified xsi:type="dcterms:W3CDTF">2007-08-23T18:58:56Z</dcterms:modified>
  <cp:revision>2</cp:revision>
  <dc:subject/>
  <dc:title>Slide 1</dc:title>
</cp:coreProperties>
</file>